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AD7F-9527-40AB-908E-267FFB04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480F-9407-4978-AA9F-35E1CB9F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E15B-D8DD-4F60-9D6B-DAA05078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E98E-8639-4F3B-A041-6DC03D3E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DB52-E3CC-4D61-B899-874544CA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8AE7-A47A-4C09-A5A4-CD59FD9B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6EB6-D2C4-447D-B273-829D03FE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1A7A-BD9B-4F89-A61A-D4B16F54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FE6-0171-4180-A001-5392233E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68A-4D55-4EE2-8600-64A9CE51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F0CA-B6D1-476E-BDF5-4F2B500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CB93-2BCA-4B03-A2A3-4936792A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3C87-55EF-4F4A-9715-451C72A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1D31-DFB1-4D78-91FB-A44B1E7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256E-D835-4183-8B2A-BB6832F4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2077-EB1A-49F8-B20D-7B414344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F2F-1510-4F99-82B5-B41500BB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83F6-AB7F-4191-B580-0922A72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6A5F-301B-4C65-A755-E8FC9048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9945-3604-4D8B-81B7-20626F4A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8800-4C0E-4033-9ABA-D9091752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52CE-93E9-46A7-818C-A95D3DB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85F3-9334-43F0-9D00-74BFD1AC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3FA7-E8C2-4239-BCD2-3EDD27A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7F1C-AADF-4B92-A30E-477599FE86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3E0F-6A5E-473B-9FD7-7280EF80E6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Run-ons and Comma Splice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semicolon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cond way to correct run-ons and comma splices is to use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micol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[;]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join the two sent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semicolon only when the two sentences express closely related ide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micolon can be used only where a period could also be used; the words on each side of the semicolon must be able to stand alone as a complete sentenc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capitalize the word that follows a semicolon unless it is the name of a specific person, place, or thing that is usually capitaliz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-on: Bernard wanted to break this habit after all, why couldn’t a chair be used as a chai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Bernard wanted to break this habit; after all, why couldn’t a chair be used as a chai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semicol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is astonishment,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o his astonishment;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To his astonishment, everyone he asked agreed;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To his astonishment, everyone he asked agreed they said;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semicol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is astonishment,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o his astonishment; everyone he asked agreed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To his astonishment, everyone he asked agreed; they said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To his astonishment, everyone he asked agreed they said; they would clear everything off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comma and a coordinating conjunction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hird way to correct run-ons is to add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ordinating conjun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d, but, or, nor, so, for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Think of a coordinating conjunction as a link that joins independent clauses to form one sente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ma splice already has a comma, so you need to add only a conjun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fore choosing a conjunction, read the independent clauses aloud to see which word best expresses the relationship between th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a splice: Eventually, he got to everyone in the office, one by one, the chairs were cleared of clut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Eventually, he got to everyone in the office, and one by one, the chairs were cleared of clut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comma and a coordinating conjuncti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rnard’s accomplishment was short-lived it wasn’t long before each of those chairs began to develop a fresh pile of books all over ag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Bernard’s accomplishment was short-lived, and it wasn’t long before each of those chairs began to develop a fresh pile of books all over ag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Bernard’s accomplishment was short-lived it wasn’t long, and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Bernard’s accomplishment was short-lived, or it wasn’t long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comma and a coordinating conjunction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rnard’s accomplishment was short-lived it wasn’t long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) Bernard’s accomplishment was short-lived, and it wasn’t long before each of those chairs began to develop a fresh pile of books all over ag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Bernard’s accomplishment was short-lived it wasn’t long, and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Bernard’s accomplishment was short-lived, or it wasn’t long before each of those chairs began to develop a fresh pile of books all over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dependent word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fourth way to correct run-ons and comma splices is to make one of the complete sentences a dependent clause by addin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pendent wo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uch a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fter, because, before, if, though, even though, unles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dependent word (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ordinating conjun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that best expresses the relationship between the two clau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-on: Sophia thought they got the watchdog their house was robbed recent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Sophia thought they got the watchdog because their house was robbed rece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a run-o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un-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wo complete sentences (also calle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joined without any punctu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rnard loved his part-time job at the local newspaper there was one probl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dependent wor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ing a dog in the neighborhood probably made it safer for everyone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aving a dog in the neighborhood probably made it safer for everyone,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Having a dog in the neighborhood probably made it safer for everyone, even though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aving a dog in the neighborhood probably made it safer for everyone, and that nonstop barking was intoler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dependent wor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ing a dog in the neighborhood probably made it safer for everyone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aving a dog in the neighborhood probably made it safer for everyone,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Having a dog in the neighborhood probably made it safer for everyone, even though that nonstop barking was intoler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aving a dog in the neighborhood probably made it safer for everyone, and that nonstop barking was intoler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was careful with money,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nthony was careful with money, and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hough Anthony was careful with money,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nthony was careful with money, so his friends weren’t always so financially savv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hony was careful with money,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Anthony was careful with money, and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Though Anthony was careful with money,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Anthony was careful with money, so his friends weren’t always so financially savv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ffrey always seemed to be asking someone for a loan,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Jeffrey always seemed to be asking someone for a loan, Anthony assumed,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Jeffrey always seemed to be asking someone for a loan, and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Jeffrey always seemed to be asking someone for a loan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ffrey always seemed to be asking someone for a loan,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Jeffrey always seemed to be asking someone for a loan, Anthony assumed,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) Jeffrey always seemed to be asking someone for a loan, and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Jeffrey always seemed to be asking someone for a loan Anthony assumed this didn’t embarrass Jeffre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ever, Jeffrey always repaid the money he borrowed from Anthony, he repaid it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However, Jeffrey always repaid the money he borrowed from Anthony he repaid it;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However, Jeffrey always repaid the money he borrowed from Anthony he repaid it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However, Jeffrey always repaid the money he borrowed from Anthony; he repaid it even after his work promotion fell throug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Jeffrey always repaid the money he borrowed from Anthony, he repaid it even after his work promotion fell throug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However, Jeffrey always repaid the money he borrowed from Anthony he repaid it; even after his work promotion fell throug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However, Jeffrey always repaid the money he borrowed from Anthony he repaid it even after his work promotion fell throug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) However, Jeffrey always repaid the money he borrowed from Anthony; he repaid it even after his work promotion fell throug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rly every week, Lenny spent nearly his whole paycheck,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Nearly every week, Lenny spent nearly his whole paycheck, or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Nearly every week, Lenny spent nearly his whole paycheck, he liked to buy things like expensive cameras.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Nearly every week, Lenny spent nearly his whole paycheck.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rly every week, Lenny spent nearly his whole paycheck,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Nearly every week, Lenny spent nearly his whole paycheck, or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Nearly every week, Lenny spent nearly his whole paycheck, he liked to buy things like expensive cameras.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) Nearly every week, Lenny spent nearly his whole paycheck. He liked to buy things like expensive cameras, fine clothes, and designer sho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a comma spli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wo complete sentences (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joined by only a comm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arly all the people who worked there had the same habit, it was a habit that had always annoyed Bern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for himself, Anthony had a few tricks he had learned for saving money,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As for himself, Anthony had a few tricks he had learned for saving money though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As for himself, Anthony had a few tricks he had learned for saving money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As for himself, Anthony had a few tricks he had learned for saving money; one of them was throwing all of his small change into a j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e one of the four ways to correct this comma splice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 for himself, Anthony had a few tricks he had learned for saving money, one of them was throwing all of his small change into a j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As for himself, Anthony had a few tricks he had learned for saving money though one of them was throwing all of his small change into a ja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As for himself, Anthony had a few tricks he had learned for saving money one of them was throwing all of his small change into a ja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) As for himself, Anthony had a few tricks he had learned for saving money; one of them was throwing all of his small change into a jar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identify run-ons and comma splice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each of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a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to see how they are joined. Is there any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nctu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tween them? If not, you may be looking at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un-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re is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twee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pendent claus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ook fo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ordinating conjun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li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, but, for, so, or, ye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 If there is none, you may be looking at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correct run-ons and comma splice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four ways to correct a run-on or a comma spli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perio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semicol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comma and a coordinating conj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dependent wo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dd a period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can split run-ons and comma splices into two separate sentences by addin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rio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tween th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adding the period, capitalize the letter that begins the new senten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read your new sentences to make sure they each contain a subject, a verb, and a complete thou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-on: Each person had a chair next to his or her desk for visitors their visitors were not able to sit in many of those chai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cted: Each person had a chair next to his or her desk for visitors. Their visitors were not able to sit in many of those chai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perio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ason was very simple,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he reason was very simple, most people.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The reason was very simple, most people stacked books, papers, and other stuff.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) The reason was very simple.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would you add a period to correct this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ason was very simple,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) The reason was very simple, most people.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) The reason was very simple, most people stacked books, papers, and other stuff.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) The reason was very simple. Most people stacked books, papers, and other stuff on their chai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7:53:45Z</dcterms:created>
  <dc:creator>BSM</dc:creator>
  <dc:description/>
  <dc:language>en-US</dc:language>
  <cp:lastModifiedBy>BSM</cp:lastModifiedBy>
  <dcterms:modified xsi:type="dcterms:W3CDTF">2008-02-20T14:18:17Z</dcterms:modified>
  <cp:revision>89</cp:revision>
  <dc:subject/>
  <dc:title>Run-Ons and Comma Splices</dc:title>
</cp:coreProperties>
</file>